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0F14-83B0-4941-AA8E-C919DA40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2790-0462-459B-9D78-593E146F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7B18-4891-4D73-BA1F-51B21E83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2742-B122-4D4D-9D12-B26F9ED2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E5C8-5B1F-4923-A1EC-D916C131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C025-27AD-4F56-A4A1-BBD2A649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6129-0C23-41F2-A009-791F7410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7DD0-C334-4CDD-B6A9-0398EEC6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B5C9-0205-4B08-9635-0947A8D4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F297-CBFF-4D1E-8E2D-E6F32F46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A29B-D009-4234-BFB8-4868DDAC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EFF8-0D73-4F96-82DE-66F4D63A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7C72-4A24-492D-83C7-3925F988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9F9E-FE65-4EF5-8865-36074DE8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6F6F-F3D5-4A82-9ED5-98D2BAC6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CB9D-2042-4BB0-A2ED-29148300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778B-EAEB-4881-B486-6D749571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E7CE-A147-4914-A48C-C973D8CC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9E89-EBDD-440E-87D8-897D8531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31C3-B504-40DB-B3F2-B61F0E64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DDA0-3CAD-4BB7-A566-59523CFE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80CD-2A55-4744-9528-F6679FD7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00F1-4A0E-42E3-9946-EDEEC4F7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B0BA-3C0D-4B20-8E63-D26D12F3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08D0-E173-41A8-9F09-88BF9B3EE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B916-61E4-4FEE-86DC-F621775AEA8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第四章  保险承保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个人健康保险业务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健康状况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逆选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因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性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作经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生活习惯和生活方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个人意外伤害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危险爱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身体健康状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金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团体保险业务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资格、团体的规模、团体成员的投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格、团体的业务性质、参保率、团体成员的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率、保险金额的确定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理赔经验、参保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财产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性能或构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用途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环境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重要防护部位及防护措施状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验有无正处于危险状态中的财产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查各项安全管理制度的制定和执行情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四节  保险合同的保全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全的内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全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保全服务的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单保全服务的基本作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附加价值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咨询与投诉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核保  续保  道德风险  心理风险保全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获取承保信息的主要渠道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核保中事前选择和事后选择的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道德风险 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心理风险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个人寿险和团体寿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财产保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单保全服务的基本作业的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承保的基本程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制定承保方针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获取和评价承保信息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主要渠道：投保单、中介人及其经营业绩、体检报告、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地区销售经理、消费者调查报告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审查核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作出承保决定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五、单证管理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六、续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承保选择与承保控制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核保的概念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核保是指保险公司对可保风险进行评判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，进而决定是否承保、以什么样的条件承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分析过程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核保的内容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前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投保人或被保险人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标的及其利益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后核保选择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核保控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道德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保险金额，避免高额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赔偿程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心理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免赔额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共同保险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单中订入保证条款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4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优惠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5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其他优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核保要素分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个人寿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有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体格、 既往症、现症、家庭病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无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、习惯或嗜好、道德风险因素、财务状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31:05Z</dcterms:modified>
  <cp:revision>22</cp:revision>
  <dc:subject/>
  <dc:title>没有幻灯片标题</dc:title>
</cp:coreProperties>
</file>